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F077-1428-4F68-8FF0-EDF3B68F0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8AEF-24BB-4431-A55D-08F1506C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583E-1DAE-4C95-A4C8-C8FC34753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05BA-7094-4787-B525-277DBE82C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0EFE-5D3F-479D-97B6-E17B25CC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392D-2BB6-4C06-92C0-40D522B4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FC7D-C49E-493D-9862-955D6F4C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18D1-2141-4ADD-9A63-828076B9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FCFA-0BB5-4738-B19F-28A734C1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C949-0F9D-4701-A6B5-0579DF4C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CD28-6220-41AF-9B53-7671E0CD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4EAE-469A-4298-AA51-149998C9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8EB8-93F0-492E-BFBA-1FBAA15BF7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lice-in-wonderland.net/school/alice1019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Content Placeholder 5" descr="bird.jpeg"/>
          <p:cNvPicPr/>
          <p:nvPr/>
        </p:nvPicPr>
        <p:blipFill>
          <a:blip r:embed="rId1"/>
          <a:stretch/>
        </p:blipFill>
        <p:spPr>
          <a:xfrm>
            <a:off x="533520" y="304920"/>
            <a:ext cx="7823160" cy="64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lice in Wonderland on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Jabberwoc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seems very pretty," [Alice] said when she had finished it, "but it's rather hard to understand! ... Somehow it seems to fill my head with ideas--only I don't exactly know what they are!"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Carroll The Annotated Alice 19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ice and Humpty Dump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28240" y="14475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ce discusses the poem with Humpty Dumpty in the book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 the Looking Glass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hat's enough to begin with," Humpty Dumpty interrupted: "there are plenty of hard words there. 'Brillig' means four o' clock in the afternoon--the time when you begin broiling things for dinner."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hat'll do very well," said Alice: "and 'slithy'?"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Well, 'slithy' means 'lithe and slimy,' 'Lithe' is the same as 'active.' You see it's like a portmanteau--there are two meanings packed up into one word."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bberwocky by Lewis Carrol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75248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as brillig, and the slithy tov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Did gyre and gimble in the wabe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mimsy were the borogove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And the mome raths outgrab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Beware the Jabberwock, my son!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jaws that bite, the claws that catch!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ware the Jubjub bird, and shu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rumious Bandersnatch!"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took his vorpal sword in hand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Long time the manxome foe he sought -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rested he by the Tumtum tre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And stood awhile in thoug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495680" y="1295280"/>
            <a:ext cx="4648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, as in uffish thought he stood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The Jabberwock, with eyes of flam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e whiffling through the tulgey wood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And burbled as it came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, two! One, two! And through and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The vorpal blade went snicker-snack!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left it dead, and with its hea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He went galumphing bac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And, has thou slain the Jabberwock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Come to my arms, my beamish boy!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frabjous day! Callooh! Callay!'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He chortled in his jo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`Twas brillig, and the slithy tov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Did gyre and gimble in the wab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mimsy were the borogove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And the mome raths outgrab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pogo.jpeg"/>
          <p:cNvPicPr/>
          <p:nvPr/>
        </p:nvPicPr>
        <p:blipFill>
          <a:blip r:embed="rId1"/>
          <a:stretch/>
        </p:blipFill>
        <p:spPr>
          <a:xfrm>
            <a:off x="1295280" y="152280"/>
            <a:ext cx="5639040" cy="64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16:46:56Z</dcterms:created>
  <dc:creator>MASONJ</dc:creator>
  <dc:description/>
  <dc:language>en-US</dc:language>
  <cp:lastModifiedBy>MASONJ</cp:lastModifiedBy>
  <dcterms:modified xsi:type="dcterms:W3CDTF">2012-03-07T16:27:49Z</dcterms:modified>
  <cp:revision>3</cp:revision>
  <dc:subject/>
  <dc:title>Slide 1</dc:title>
</cp:coreProperties>
</file>